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8149-BA01-4901-8AD7-E5CCB8BB6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205A-9A20-419E-BF76-296FE3D3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5DB88-4B3B-4F4B-B136-9C466AFE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0693D4-1653-49FA-A6CD-587C81BD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078954-691D-4FB8-B1ED-E0205C92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FF62E6-7C6C-461B-969B-DA547EC5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FE78D8-0A1A-4505-8C9C-7A5CD2D0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B2E8D-A9E9-4C41-984C-96E8C7D7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34C96-5BFB-4B9B-9B6E-7AAE5790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93421-1042-4DD4-B5A6-BA54D2CA7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2B8FF1-CA10-4606-BEE4-002483BFF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B8D6D3-6157-4D26-AB7C-C74AEAC62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03B4-1EA3-46A6-871F-E2AE8111D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9F232F-711A-4561-9375-95AFEDBB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8DFE48-6E09-427B-A344-BF3A8B5F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0DDE7F-1FB1-46A4-8704-84ED13AD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5BFBD9-B414-4878-A60C-3E16149E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A33964-D9E8-47B4-9143-DA920808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178D3C-1EC0-4528-AF3E-1BAE8984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B0064C-7A74-4A3C-A023-1B33400C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4D05F-70C1-455C-BA65-C6F966D0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A627B8-5C79-4946-A392-E3E898D8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039A63-623B-4295-AC26-1735BCBE9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F8D3-CFCC-4613-8A53-5DD148F5A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50663C-BB66-4CEE-A0C5-D308A8AEC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82848-E9AD-4B40-BCE2-7F2CFDFFB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F9FFD-2541-4BDD-8215-255252D2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4A602-3E4F-4D42-AADF-41A3C178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38B8E-11B2-43F6-8222-B0210CC6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24100-3A42-4305-896F-42A76C6B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D225D-FAA5-4FC7-AA8A-C9950066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8B1E7-1C92-4491-B267-9A19FFD1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C3764-39C7-4635-8BCC-ECCF8EA1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83AB4-1F36-4E96-8FA4-6E35B218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B3FE-53EE-424B-BCF3-89465CFA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883188-2C2C-45C0-921E-EF8879C9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AA7CF-246C-40FA-B45C-86C800B36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E038A-A554-49C3-A961-BA2A596B3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8311B0-3CB3-467C-B918-1C4619AFD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1EC59D-3367-4097-9482-33F75910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8AE4B5-3C9F-4CE7-80ED-44CD530F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4B4998-FCCC-4815-91F0-CF6E5068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35E694-1811-4255-AB73-53FF7B04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74091D-17AA-4476-AB4B-B4015C43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1312A6-B99B-4706-832F-85184A34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5938-7009-4070-92C8-237F21E8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DF0914-CDD9-4D00-9707-A1D95848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74FD44-DFA9-49FF-AB0B-15863AA9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68ADC1-F7C0-45BC-B55C-0A91A947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4BD394-49D7-4CE6-BD7B-D87FDC337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7E481E-742C-4F7D-93A9-36B19C423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F7BDB7-6E3A-41D5-8742-7AE2C554F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AA824D-638D-4195-8D26-A3F98940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42D5B1-ADA5-463A-8514-B547055D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1CA133-4D51-430A-8BA4-781B533C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991B45-A34B-479E-9292-32BBBFAF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7511-4F35-48CE-843C-77EA4FCD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FE5A82-4336-48AE-983B-B88D598B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634653-5CF1-461A-97FF-94A84423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A85421-CB49-4E44-819F-6B8D0EF6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4C5C80-A7A7-47C4-8919-C1C6BAEC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3D6D5D-D790-47B0-A0A2-29D34B04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B8F69C-0205-4452-B139-888A74BA0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49BDBA-17B4-4E8C-9BCB-29322B0E4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4C81CC-837A-442F-936E-9ABA11260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009A68-C0EB-45DC-B041-1BB52269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5D7CC4-FCFF-4A27-B591-400DF081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8938-5D9A-4F98-B6CC-ADF4FA51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75FF88-1EFC-4F4C-95EF-65E08F67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B22438-1F5B-4967-99AB-B54FC680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9FCFF8-EFCB-443F-9F8C-ABC615BA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E5993F-223F-469C-AEBB-0215F2CC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714D51-5A66-4A94-B994-C984DAC6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B43B32-0C48-4BE3-886D-5541FB8D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663DB3-14F7-44EE-8FF9-45605EA0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2F153A-4AA5-4402-AA67-D3A14EF03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763E45-9FF0-4538-AC8D-E9B16477E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38CB89-BA5E-4F33-8068-1D1BE082A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50C1-B151-42F2-8DDC-576269A3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CBA2A4-3217-4121-B1CD-F6627477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FF8CE9-1324-4A77-8BAE-D9B38AEA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171B8F-9FBD-4171-8BAB-1C88DFB4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C81646-1E4C-4213-B34A-2E84DD0A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7078CC-C5C8-4F4C-96FC-4686205C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1F06A8-FCD1-4F26-960B-237D60D2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D13CA8-205C-46A4-8C59-4F66B767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1164B3-4C63-4ADF-A6EB-E08A6018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8BAAD7-E46D-4135-B224-070AC8C8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A8675A-8600-4866-8960-A11B7312B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5465-A4C7-4F0F-9700-C413B2A6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380138-CCB9-40C2-BE0B-DA52AE899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655800-C0ED-4ED9-A3F1-C30C4DB19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3B98CB-4E6A-4D34-AE09-CA45E53A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83B481-B4FC-4283-9CD1-A619AB08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FCD664-3BA1-47E1-85EA-5880D8E5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C2ED29-F677-4720-96C7-1DF34A32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A73B3F-77DF-4F64-A52D-3C3E72CE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EB4C63-596E-47D3-8C93-8B0B7213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88E7A5-D75B-419F-B62B-B39987DE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B3F815-9BEB-4E91-8928-5FAF0285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7DC9-63C6-483A-A0F0-B02284A2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2FEA3E-B128-40D8-BBF6-A7839DAB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94714D-DA05-4C01-BC5B-6D80F6FA0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B2AEA8-F14A-4C90-A857-A332E5BC2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6AFC5D-2CB9-4A02-8F45-6512E5AA1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F94D80-BBD0-42EF-89F6-9C2F37AA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0F3486-C0DB-47CC-9697-72250B9B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A2BEF3-E859-4E21-9082-2DB75348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31BA76-A39A-4BCD-B365-22CFD753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53D80A-3567-446D-8E88-64CDC5B6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F71F63-0B44-47FF-859E-681BA939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F7A9-7E95-4D65-95AE-BC8BDE15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0E0C-937E-4AE7-A511-A858EBC1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D1936E-462D-478C-A7A6-ED808A38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321B18-F4CC-4FD2-8775-2393F4E1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0EF2D6-58BB-450A-8E90-8D670822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42FDBD-5A32-498E-8AD0-4A882D89F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5531FD-2B3D-4CD1-A9F3-6B82443B9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E07D66-0335-4C19-9D1D-7B483373A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1FB1C7-11DF-4D04-8629-83F93168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A221A2-1D9F-4C52-8010-07546487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AA8BED-8F4E-48C2-BA9D-F4BF956D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AAA967-7B3C-4C27-A6AF-C2A3FE18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B1E4-DA79-4B77-B008-499EF410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131190-D95F-4C61-A1D9-407CF775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C9C767-52D4-4013-AF60-638A2067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EC355D-FD00-44D5-BB11-930FFA04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CBDD9F-CE9E-4B38-B13A-F0E9ACC1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0785BC-FB6C-44D4-BFDC-9EAEA60B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CDF625-01E2-4178-9C2B-935DAFF94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C38E5B-D099-4F6E-B669-918822A61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9F3688-A58A-4453-A53F-9AFCC1357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4E2958-EAE8-415C-A17D-34C05C8F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5B6D12-C4BC-481B-88BB-2135412B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1BED-463A-4A09-ABB2-BE0DA837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58CBB6-4744-48A7-82F9-8321260A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D90066-6273-43DF-BE5C-7070F39D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34B57D-53A0-49B3-B7C4-BDBA1259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452E42-54E6-46E0-A482-B88338D1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70DC41-167A-4E2F-B1EE-188415D3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B0FFAE-1173-4693-B0A7-5C72F7BE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BDBF8A-7C0E-4E5A-8A4C-489D03AB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0D4CBE-FD3C-4829-808E-50C922D02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F80344-C3BD-420F-BFFC-DA8261F1D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42BBC5-0E31-4961-99FA-7CD7C4A5B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ACED-FDF7-4D16-823A-6B59D00ED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1DB97C-D0BD-43FB-BBBE-E6CA8971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BF7CBE-9DF4-4EF9-A3C0-F187A7DA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0FCA5B-A2F0-40E7-AFAA-2691D569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71DD3F-2A83-4358-8BE6-70087CBA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5797D2-8B59-4252-80C7-CC2E8406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98EE70-4A31-4BCD-993B-20FFFC14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C57EE9-5D3B-4FBB-84EE-AA9AFA2D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41EE48-CC60-4A6E-A0D0-49670B34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FC4F70-F6E9-4F74-B277-5F006412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A09592-2FC9-4AF3-A4C6-98C0C62B1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3E768-57E4-4534-82D1-6AFE09CB2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B0D9E5-AC70-4F49-841B-091731979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12886D-F232-4B70-81FB-C2DB0B811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F06E0F-5FC5-4E57-AC9A-28308CD7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615EFF-F744-47BC-9905-3D03133A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2E3888-AA77-407C-8BA7-82A28C79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1C0B54-061E-44FC-81BD-E24C8566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3A99E8-D0DD-4FF3-8385-9DAB12AD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F72D8F-09D6-49EC-8BF4-8D4D7BF5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181F62-409A-4E76-A712-6ED2DFA8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3D2C92-96A0-4EF3-849D-B6E3AF8F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C5954-DD9E-4EE9-A9B8-42B522CE4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EA6B50-2F37-4D9E-9B86-9D20B763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65F7F2-0070-49B2-8D1A-18788318D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22C6C2-DA00-4030-A4CC-10861E40A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077CD-30BB-4744-A036-09BD6C24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638D9-F582-4F75-9E68-575C0A6A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B1BE5-D836-4640-AFC5-7959BBFA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55011-807E-4120-AE86-FDE06FDA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93F7-7A18-4E2F-9336-59308576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80FF0-726D-4796-B8B9-7E2ED908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E5937-48AB-49BE-B60B-A7E902BA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51781-276F-4B27-A1A2-C0500875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DEC0C-E0FB-4EDB-8288-1D896199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495F7-1C00-4971-9175-86B79EFC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25DD2-49B1-4275-A3E6-D63B7CDDC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CCD9C-B147-4F45-94F5-A631E033A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F52CD-9B6A-4B73-8107-B0A0DCE78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6E5E4-312A-4C38-87C5-29771876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37ED3-4E56-4EA4-B2FA-FFB4814F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1BB2-2DB6-4C84-B8B1-65EF9666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99BAB-810B-4D2D-9E06-DA783A9C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73C4B-26E7-4ABA-A003-7CBF35F3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2AB4C-8DD8-4C4D-A238-B91DCDCE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DB258-0AF5-4059-85FC-730BE2ED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3C211-E42D-4D75-A13C-8CD4AE66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72705-9B2A-4CA0-A031-659AC9AA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568BD-80CF-4557-9884-33CD1272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693FB-B8BA-426C-9EC9-890367EBC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2F5B5-A3E9-4E15-AA6B-6CAF0D0D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55ADF-FB5B-441D-84B7-195E992EB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9A17-3983-4E58-B1C1-71D87AC1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3ED21-6F5A-4720-9321-0CE97E5A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82D86-1C5F-4616-B5D2-C7C3DB24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5879C-6F2C-441B-B48B-98E3DFCB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D8677-F813-4217-B617-447B3FF1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0F133-7265-4CA5-904B-104B2339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EFF8D-B28B-46CC-B03F-2F7B3400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2CF61-A120-4542-AA09-C1D7671C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BBAB3-7818-495A-92F0-1DD78090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C5F4B-CE19-4E18-B388-5E7B55D0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A6EC0-5681-4FE4-99C5-FA83CBBAA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951C-42AB-4894-82D2-CE97E962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8ECEA-0E78-40A8-882C-2E6B2E390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77ED4-A911-494C-8DDE-D79F5510E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B690D-1C35-4711-827C-1B3AB13C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BDFEA-2EA6-4F1B-BF17-EB562BB2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187EA-EE2A-47DB-AC22-A84A154A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F1FE8-EBE7-4FAE-B73B-AC77CA4F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26575-2F33-4CE5-904A-90927D33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68EBE-F5B4-40B3-8112-D70BEF1C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DCC2C-1EE7-475C-A209-D3C6B001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0C806-2AF7-4BE6-B299-9B94A6DD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40C1-11F5-4B26-BB68-C36530DD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18855-C14D-4A7A-9B2A-9517498D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1CC6B-D666-4A60-821B-2047C5186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6AB9C-F430-47C4-99E2-06D2D8CDA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51B79-5909-4DD5-8E38-4B3862425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3E7B1-70CC-4117-B11E-7DD7F292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73D26-A795-4FFB-9D85-6183BAB1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C7791-ABA3-486A-9530-DAE7037B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5562C-CE26-49AF-A47A-1C39FEE0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234E4-AC5F-4726-B601-56B2C38F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3A60E-1E1E-46C2-82B1-5E7260C3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C065-F678-4AB5-867D-DE453A8A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18847-53D9-4AD1-AE1E-AB0038BE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37854-CBDD-45A3-B76E-BC9DD768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D785D-087B-4D39-B561-8585011B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CFCAD-E6BE-4E1F-83C8-EA8E1A326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97C35-84F8-4F6C-9D5B-9C980C833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00733-0990-4A87-BB91-37869A520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8A381-BAB9-4914-BCE6-6BEA93CA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17D22-85F4-4DBA-8C86-8CBCD837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D12DE-0DE6-4B92-B4B2-4C9FECB9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AEE28-007D-4112-9006-8D6B09B1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A657-FCC3-4628-B4E5-A994CF16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7DF78-479D-4C41-8963-4B072C94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E62DC-646F-481F-8C2A-C36CECD4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FE450-2219-49B5-96EE-28572830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415B3-CFD5-4BAF-831A-0EF36D43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09016-9229-4B9D-883A-30E4C18B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E9980-1634-4C1A-91EE-58E3C965A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DAD27-6895-441B-9384-C3350162C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33603-A856-4272-9C67-1FCC36088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FE577-EEDE-4901-A75E-8525C667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C0B511-77F6-4FD3-8E19-3842E7A3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8CA1-006F-427F-81B9-404DCC3FB1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BD2B-A488-4902-97CD-9624295443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9884-EEC7-4694-A076-650D7BD092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C50F-6528-49A1-8377-B34645F7F5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FB7B-A831-4482-B278-9332200940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CA1B-634E-4E8D-AB3C-4E45FD24A8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49D7-73A6-4C35-A54D-A68788F528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DE74-4F2F-4087-AB80-86F3C52A74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6398-85DC-4FA6-899D-9CE7CD5462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F6B6-04F8-48A0-BA0D-0B23CAA76A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D004-6E01-4ECC-8B11-662A931627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2095-B470-4BA4-BED0-A491F98866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C500-0B35-4852-83C6-9AD8D31075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4BA0-80E6-4B0B-A48A-9EF8BA75B7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980C-82D8-445A-9B30-CD7BE29ED3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277F-7C8A-4DED-BC8D-AC31F9AB82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9273-4397-44D9-9B5E-9A883E927C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C5C5-66B0-467F-9844-520DB7E439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2DEC-7A30-41E0-A7F1-DB7B8DD3FA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96F1-7BFE-4673-9F94-F087CC7554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4981-BFEE-41BE-B898-365B520283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D296-07A4-42AB-BB53-EB39F08EF8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8B48-6B35-416A-B891-2A63368945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86FB-E3DA-4B9D-8667-B758363647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65BC-A948-4166-BE3E-9024FA3BFC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589B-EBDB-4BA4-8894-4395727DC6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5C31-807D-498A-852F-86A5BCF83C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11EE-B61A-409B-A3A8-98CAE793F6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5741-66EF-4966-A34F-F4CC1D2F56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3EE0-0D2E-48D6-9FB7-AC18F3997D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D54C-F01F-486F-A80C-BBAAFD1334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4944-89CB-4016-ABB7-39F95D444F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CA20-E6E8-4028-BB89-75F9C9CA47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C632-7CEC-48D4-BCA2-1BD63D29CA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EF32-9C21-4571-AE29-7D0CB3F868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3D5B-D83A-446F-A899-03AA14D5BF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57A6-762B-459C-BE2F-8152723470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456B-E7DA-4972-9830-BC5E1AF547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3033-6051-43B0-AA74-CB6453D821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5D7D-55CE-4E71-9713-ECA504905F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619360" y="3147840"/>
            <a:ext cx="3905280" cy="5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700200" y="803160"/>
            <a:ext cx="7743600" cy="55054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4427640" y="227664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2987640" y="306864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780000" y="386064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5940360" y="386064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4994280" y="595008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6372360" y="595008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7792920" y="5950080"/>
            <a:ext cx="28908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9410" descr=""/>
          <p:cNvPicPr/>
          <p:nvPr/>
        </p:nvPicPr>
        <p:blipFill>
          <a:blip r:embed="rId1"/>
          <a:stretch/>
        </p:blipFill>
        <p:spPr>
          <a:xfrm>
            <a:off x="100080" y="1190520"/>
            <a:ext cx="8943840" cy="44769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7245360" y="246384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5867280" y="4398840"/>
            <a:ext cx="28908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8373" descr=""/>
          <p:cNvPicPr/>
          <p:nvPr/>
        </p:nvPicPr>
        <p:blipFill>
          <a:blip r:embed="rId1"/>
          <a:stretch/>
        </p:blipFill>
        <p:spPr>
          <a:xfrm>
            <a:off x="600120" y="2409840"/>
            <a:ext cx="7943760" cy="20383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5532480" y="4140360"/>
            <a:ext cx="28872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1:36:53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